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B60-A112-499D-8DF9-472DFE47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013-F584-4F49-84C0-53DB6788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87B-6334-4FFB-A6C5-78A8B4D3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C27-B8E5-4ADE-AFBA-F79A36AA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5A9-C083-4573-BCF4-D23F492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1DD-ED6E-4EAF-8D4C-39C53820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648-5A13-4ECB-9F43-F155F3A9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7F1-7081-4D9D-9980-FE28B700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E80-A5CF-479D-88DC-5F359800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99F-34E6-4912-AC32-85C2C11F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446-5501-4E9A-9872-0183BDF3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A43-CE01-4C3C-9581-DE8E73F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BA09-8353-41D1-8D07-CF269B16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95280" y="609480"/>
            <a:ext cx="662940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schwit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905120" y="5638680"/>
            <a:ext cx="5638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: Marissa St. Pier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7" descr="auschwitz"/>
          <p:cNvPicPr/>
          <p:nvPr/>
        </p:nvPicPr>
        <p:blipFill>
          <a:blip r:embed="rId1"/>
          <a:stretch/>
        </p:blipFill>
        <p:spPr>
          <a:xfrm>
            <a:off x="2590920" y="2362320"/>
            <a:ext cx="4008240" cy="2886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590920" y="5257800"/>
            <a:ext cx="4038480" cy="2311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english.illinois.edu/MAPS/holocaust/essaypics/auschwitz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Germany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ymbol of the Holoc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at Oswiemcim,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peration from May 1940 till January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million people were murdered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sh prisoners, Soviet POW, Sinti Roma, Jehovah Witnesses, homosexuals, and mainly J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ught in by cattle-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a number, shaved heads, striped uni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5" descr=""/>
          <p:cNvPicPr/>
          <p:nvPr/>
        </p:nvPicPr>
        <p:blipFill>
          <a:blip r:embed="rId1"/>
          <a:stretch/>
        </p:blipFill>
        <p:spPr>
          <a:xfrm>
            <a:off x="682560" y="79200"/>
            <a:ext cx="7937640" cy="1159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hoto1.jpg"/>
          <p:cNvPicPr/>
          <p:nvPr/>
        </p:nvPicPr>
        <p:blipFill>
          <a:blip r:embed="rId2"/>
          <a:stretch/>
        </p:blipFill>
        <p:spPr>
          <a:xfrm>
            <a:off x="5638680" y="1371600"/>
            <a:ext cx="292104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5638680" y="3200400"/>
            <a:ext cx="3733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english.illinois.edu/MAPS/holocaust/essaypics/auschwitz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mmander of Ausch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ed in May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ed for 3 ½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s tested and perfecte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of mass k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d with variou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s introduced the poison gas Zykl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yklon B was said to work within three to fifteen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5" descr=""/>
          <p:cNvPicPr/>
          <p:nvPr/>
        </p:nvPicPr>
        <p:blipFill>
          <a:blip r:embed="rId1"/>
          <a:stretch/>
        </p:blipFill>
        <p:spPr>
          <a:xfrm>
            <a:off x="2206800" y="79200"/>
            <a:ext cx="4962240" cy="115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oessx.jpg"/>
          <p:cNvPicPr/>
          <p:nvPr/>
        </p:nvPicPr>
        <p:blipFill>
          <a:blip r:embed="rId2"/>
          <a:stretch/>
        </p:blipFill>
        <p:spPr>
          <a:xfrm>
            <a:off x="5562720" y="1447920"/>
            <a:ext cx="3098520" cy="2324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562720" y="38098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wporter.com/hoessx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yone could be up for selection: men, women, children or elder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were told that it was only a sh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victims would change in an outer chamber and then would walk into the actual gas cha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gas chambers were disgui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 showers with dummy sh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a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 men would dump in the cyan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llets through holes in the roo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than 20,000 people could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ssed per 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5" descr=""/>
          <p:cNvPicPr/>
          <p:nvPr/>
        </p:nvPicPr>
        <p:blipFill>
          <a:blip r:embed="rId1"/>
          <a:stretch/>
        </p:blipFill>
        <p:spPr>
          <a:xfrm>
            <a:off x="1468440" y="6480"/>
            <a:ext cx="645624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photo2.jpg"/>
          <p:cNvPicPr/>
          <p:nvPr/>
        </p:nvPicPr>
        <p:blipFill>
          <a:blip r:embed="rId2"/>
          <a:stretch/>
        </p:blipFill>
        <p:spPr>
          <a:xfrm>
            <a:off x="5638680" y="3505320"/>
            <a:ext cx="310536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562720" y="57913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english.illinois.edu/MAPS/holocaust/essaypics/auschwitz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700 prisoners tried to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300 actually ma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unishments were death by sta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one did escape, the SS officers would pick 10 random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en random people would be killed for no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3880" y="380880"/>
            <a:ext cx="6400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aping Attemp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Auschwitz/concentration camps time line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unior Scholas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5 Apr. 2005: T-7(2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uschwitz album: story of a death factory: Hitler's 'final solution of the Jewi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' sent millions to extermination in this installation's gas chambers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matorium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A To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Magazine] Mar. 2006: 28+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Auschwitz: A History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shers Week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52.20 (2005): 47+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. 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chloss, Michael. "FDR's Auschwitz Secret: In an exclusive excerpt from his ne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, historian Michael Beschloss reveals the untold story of how Frankl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sevelt decided against bombing the Nazi death camp.(Excerpt).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wswee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4 Oct. 2002: 37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bli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3:14Z</dcterms:created>
  <dc:creator>20952</dc:creator>
  <dc:description/>
  <dc:language>en-US</dc:language>
  <cp:lastModifiedBy>20952</cp:lastModifiedBy>
  <dcterms:modified xsi:type="dcterms:W3CDTF">2009-12-15T15:02:18Z</dcterms:modified>
  <cp:revision>16</cp:revision>
  <dc:subject/>
  <dc:title>Slide 1</dc:title>
</cp:coreProperties>
</file>